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1.png" ContentType="image/png"/>
  <Override PartName="/ppt/media/image16.png" ContentType="image/png"/>
  <Override PartName="/ppt/media/image14.png" ContentType="image/png"/>
  <Override PartName="/ppt/media/image2.jpeg" ContentType="image/jpeg"/>
  <Override PartName="/ppt/media/image3.jpeg" ContentType="image/jpeg"/>
  <Override PartName="/ppt/media/image6.jpeg" ContentType="image/jpeg"/>
  <Override PartName="/ppt/media/image8.png" ContentType="image/png"/>
  <Override PartName="/ppt/media/image12.wmf" ContentType="image/x-wmf"/>
  <Override PartName="/ppt/media/image4.png" ContentType="image/png"/>
  <Override PartName="/ppt/media/image15.wmf" ContentType="image/x-wmf"/>
  <Override PartName="/ppt/media/image1.jpeg" ContentType="image/jpeg"/>
  <Override PartName="/ppt/media/image7.png" ContentType="image/png"/>
  <Override PartName="/ppt/media/image9.jpeg" ContentType="image/jpe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F7610-FFBA-40AA-A7EF-867BE19C5FF3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1DE3-0E80-4FB9-A553-78FA3350A69A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D037C-8AFB-4E64-A99E-3BEFE2FEBCC5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D82CD-40F8-4A30-A867-61B18ED5CAD9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CDB5-903F-45C7-84DE-C1EFA84980E3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FFB08-55B7-4085-8C1D-30D9B9D2DC48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55AE2-B61A-4649-853E-8B09E254A77E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DF37-FC48-4BB6-A033-2BCEBE622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0B26-6906-499B-A669-7E7CE0A16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5B18-E2BB-4F99-879B-0B5397595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1ED3-2A52-448D-BB69-C3AF1D97C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30CEB-62AB-48D5-BC2D-ED73EE83A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C0C8A-72FD-4CC7-8276-FB0D773D7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1B837-2D66-4C80-AE09-C545D2559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4FB09-A058-49A1-A4F8-EE6B99761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37642-CF43-4F13-8AD1-C8FD515E5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73B30-968E-4A50-BA53-ED12C08E2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F0B1A-8F1B-4F4D-9921-9F79BDC6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F5B5-DDE9-48C7-AC53-0C3D21C4C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76EC7-7EBB-41FC-878B-D8189693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22A7D-0D00-43C6-AE5F-90797DB8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01A15-038D-4321-87BC-E87F569FC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03D90-8EF7-4F8F-BB62-2FAB74F7F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4CE94-77E0-4395-AD43-1F2412510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9149-281F-4E05-9103-035CB6738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D531-1040-480E-AB4C-267EDA9D4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A7BA-331E-479A-A476-414484F2A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A2F7-A820-4FC4-B644-624F864D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6CCC-2736-485A-BE92-4A4BE064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8D57-7D99-4673-B134-B82FF7C9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D37C-4AFA-412A-975A-3489C740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027C7-A3AD-4CBE-8831-28FDF3DE0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16FDC-A253-4A33-890F-353485FAF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http://www.monald-metals.lv/images/1-p-cent.jpg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90" name="Tekstikehys 1"/>
          <p:cNvSpPr/>
          <p:nvPr/>
        </p:nvSpPr>
        <p:spPr>
          <a:xfrm>
            <a:off x="357120" y="2786040"/>
            <a:ext cx="8786880" cy="1191240"/>
          </a:xfrm>
          <a:prstGeom prst="rect">
            <a:avLst/>
          </a:prstGeom>
          <a:noFill/>
          <a:ln w="936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ffffff"/>
                </a:solidFill>
                <a:latin typeface="Arial"/>
              </a:rPr>
              <a:t>Metalleja löytyy kaikkialta ympäristöstäs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ffffff"/>
                </a:solidFill>
                <a:latin typeface="Arial"/>
              </a:rPr>
              <a:t>Mitä metalliesineitä löydät luokast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kstikehys 2"/>
          <p:cNvSpPr/>
          <p:nvPr/>
        </p:nvSpPr>
        <p:spPr>
          <a:xfrm>
            <a:off x="747720" y="4286160"/>
            <a:ext cx="73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ffffff"/>
                </a:solidFill>
                <a:latin typeface="Arial"/>
              </a:rPr>
              <a:t>Mieti erilaisia metallien käyttötapo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0" y="642960"/>
            <a:ext cx="1428840" cy="1015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1714680" y="428760"/>
            <a:ext cx="1879560" cy="1271520"/>
          </a:xfrm>
          <a:prstGeom prst="rect">
            <a:avLst/>
          </a:prstGeom>
          <a:ln w="0">
            <a:noFill/>
          </a:ln>
        </p:spPr>
      </p:pic>
      <p:sp>
        <p:nvSpPr>
          <p:cNvPr id="94" name="Tekstikehys 5"/>
          <p:cNvSpPr/>
          <p:nvPr/>
        </p:nvSpPr>
        <p:spPr>
          <a:xfrm>
            <a:off x="4156920" y="785880"/>
            <a:ext cx="334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t ja bussit valmisteta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äksestä, joka on pää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iassa rauta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kstikehys 7"/>
          <p:cNvSpPr/>
          <p:nvPr/>
        </p:nvSpPr>
        <p:spPr>
          <a:xfrm>
            <a:off x="5096160" y="2214720"/>
            <a:ext cx="368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Kuparijohtimilla kuljetetaan sähkö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esim. tietokoneeseen, ja myö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koriste-esineinä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0" descr="sapp-pic"/>
          <p:cNvPicPr/>
          <p:nvPr/>
        </p:nvPicPr>
        <p:blipFill>
          <a:blip r:embed="rId3"/>
          <a:stretch/>
        </p:blipFill>
        <p:spPr>
          <a:xfrm>
            <a:off x="357120" y="2071800"/>
            <a:ext cx="2214720" cy="1558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4"/>
          <a:srcRect l="0" t="0" r="24959" b="26038"/>
          <a:stretch/>
        </p:blipFill>
        <p:spPr>
          <a:xfrm>
            <a:off x="285840" y="4214880"/>
            <a:ext cx="2147760" cy="1933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5"/>
          <a:stretch/>
        </p:blipFill>
        <p:spPr>
          <a:xfrm>
            <a:off x="2643120" y="4643280"/>
            <a:ext cx="1897200" cy="1357560"/>
          </a:xfrm>
          <a:prstGeom prst="rect">
            <a:avLst/>
          </a:prstGeom>
          <a:ln w="0">
            <a:noFill/>
          </a:ln>
        </p:spPr>
      </p:pic>
      <p:sp>
        <p:nvSpPr>
          <p:cNvPr id="99" name="Tekstikehys 13"/>
          <p:cNvSpPr/>
          <p:nvPr/>
        </p:nvSpPr>
        <p:spPr>
          <a:xfrm>
            <a:off x="4739760" y="4714920"/>
            <a:ext cx="400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tokoneet päällystetään alumiinil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omatölkit ovat pääasiassa alumii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copper%20mixiing%20bowl%206"/>
          <p:cNvPicPr/>
          <p:nvPr/>
        </p:nvPicPr>
        <p:blipFill>
          <a:blip r:embed="rId6"/>
          <a:stretch/>
        </p:blipFill>
        <p:spPr>
          <a:xfrm>
            <a:off x="2963880" y="200016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8" descr=""/>
          <p:cNvPicPr/>
          <p:nvPr/>
        </p:nvPicPr>
        <p:blipFill>
          <a:blip r:embed="rId1"/>
          <a:srcRect l="0" t="0" r="16163" b="1307"/>
          <a:stretch/>
        </p:blipFill>
        <p:spPr>
          <a:xfrm>
            <a:off x="0" y="1285920"/>
            <a:ext cx="5124600" cy="1928880"/>
          </a:xfrm>
          <a:prstGeom prst="rect">
            <a:avLst/>
          </a:prstGeom>
          <a:ln w="0">
            <a:noFill/>
          </a:ln>
        </p:spPr>
      </p:pic>
      <p:sp>
        <p:nvSpPr>
          <p:cNvPr id="102" name="Tekstikehys 6"/>
          <p:cNvSpPr/>
          <p:nvPr/>
        </p:nvSpPr>
        <p:spPr>
          <a:xfrm>
            <a:off x="5663520" y="1428840"/>
            <a:ext cx="346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Lyijyä käytetään lasimaalaust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rajaukseen, ja tinasta void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valmistaa kehyksi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2"/>
          <a:stretch/>
        </p:blipFill>
        <p:spPr>
          <a:xfrm>
            <a:off x="142920" y="3571920"/>
            <a:ext cx="4780080" cy="3036960"/>
          </a:xfrm>
          <a:prstGeom prst="rect">
            <a:avLst/>
          </a:prstGeom>
          <a:ln w="0">
            <a:noFill/>
          </a:ln>
        </p:spPr>
      </p:pic>
      <p:sp>
        <p:nvSpPr>
          <p:cNvPr id="104" name="Suorakulmio 11"/>
          <p:cNvSpPr/>
          <p:nvPr/>
        </p:nvSpPr>
        <p:spPr>
          <a:xfrm>
            <a:off x="5000760" y="4572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itain metalleja voidaan käyttää väriaine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6" descr=""/>
          <p:cNvPicPr/>
          <p:nvPr/>
        </p:nvPicPr>
        <p:blipFill>
          <a:blip r:embed="rId1"/>
          <a:srcRect l="33130" t="-215" r="932" b="30733"/>
          <a:stretch/>
        </p:blipFill>
        <p:spPr>
          <a:xfrm>
            <a:off x="428760" y="500040"/>
            <a:ext cx="2214360" cy="3403800"/>
          </a:xfrm>
          <a:prstGeom prst="rect">
            <a:avLst/>
          </a:prstGeom>
          <a:ln w="0">
            <a:noFill/>
          </a:ln>
        </p:spPr>
      </p:pic>
      <p:sp>
        <p:nvSpPr>
          <p:cNvPr id="106" name="Tekstikehys 2"/>
          <p:cNvSpPr/>
          <p:nvPr/>
        </p:nvSpPr>
        <p:spPr>
          <a:xfrm>
            <a:off x="2819520" y="785880"/>
            <a:ext cx="586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lman kalsiumia lihakset ja luut eivät kasva eivätkä toi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2"/>
          <a:srcRect l="54198" t="957" r="0" b="45236"/>
          <a:stretch/>
        </p:blipFill>
        <p:spPr>
          <a:xfrm>
            <a:off x="500040" y="3714840"/>
            <a:ext cx="2286000" cy="2665440"/>
          </a:xfrm>
          <a:prstGeom prst="rect">
            <a:avLst/>
          </a:prstGeom>
          <a:ln w="0">
            <a:noFill/>
          </a:ln>
        </p:spPr>
      </p:pic>
      <p:sp>
        <p:nvSpPr>
          <p:cNvPr id="108" name="Tekstikehys 4"/>
          <p:cNvSpPr/>
          <p:nvPr/>
        </p:nvSpPr>
        <p:spPr>
          <a:xfrm>
            <a:off x="3813480" y="4143240"/>
            <a:ext cx="44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Kaliumin yhdisteitä käytetään ilotulitteid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laukaisuaine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6" descr=""/>
          <p:cNvPicPr/>
          <p:nvPr/>
        </p:nvPicPr>
        <p:blipFill>
          <a:blip r:embed="rId1"/>
          <a:srcRect l="3574" t="0" r="59351" b="60740"/>
          <a:stretch/>
        </p:blipFill>
        <p:spPr>
          <a:xfrm>
            <a:off x="785880" y="571680"/>
            <a:ext cx="2967120" cy="1833480"/>
          </a:xfrm>
          <a:prstGeom prst="rect">
            <a:avLst/>
          </a:prstGeom>
          <a:ln w="0">
            <a:noFill/>
          </a:ln>
        </p:spPr>
      </p:pic>
      <p:sp>
        <p:nvSpPr>
          <p:cNvPr id="110" name="Tekstikehys 2"/>
          <p:cNvSpPr/>
          <p:nvPr/>
        </p:nvSpPr>
        <p:spPr>
          <a:xfrm>
            <a:off x="4337640" y="928800"/>
            <a:ext cx="42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Americiumia käytetään palovaroittimis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2"/>
          <a:srcRect l="6338" t="9096" r="32857" b="4541"/>
          <a:stretch/>
        </p:blipFill>
        <p:spPr>
          <a:xfrm>
            <a:off x="714240" y="3000240"/>
            <a:ext cx="2714760" cy="2149560"/>
          </a:xfrm>
          <a:prstGeom prst="rect">
            <a:avLst/>
          </a:prstGeom>
          <a:ln w="0">
            <a:noFill/>
          </a:ln>
        </p:spPr>
      </p:pic>
      <p:sp>
        <p:nvSpPr>
          <p:cNvPr id="112" name="Tekstikehys 4"/>
          <p:cNvSpPr/>
          <p:nvPr/>
        </p:nvSpPr>
        <p:spPr>
          <a:xfrm>
            <a:off x="4237920" y="3643200"/>
            <a:ext cx="375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Neodyniumistä valmisteta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kaiuttimia  stereokorvakuulokkeisi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rcRect l="5771" t="3751" r="480" b="11878"/>
          <a:stretch/>
        </p:blipFill>
        <p:spPr>
          <a:xfrm>
            <a:off x="500040" y="1143000"/>
            <a:ext cx="6707160" cy="4643280"/>
          </a:xfrm>
          <a:prstGeom prst="rect">
            <a:avLst/>
          </a:prstGeom>
          <a:ln w="0">
            <a:noFill/>
          </a:ln>
        </p:spPr>
      </p:pic>
      <p:sp>
        <p:nvSpPr>
          <p:cNvPr id="114" name="Tekstikehys 3"/>
          <p:cNvSpPr/>
          <p:nvPr/>
        </p:nvSpPr>
        <p:spPr>
          <a:xfrm>
            <a:off x="6081480" y="1285920"/>
            <a:ext cx="252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Tiesitkö, että vanhas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kännykästäsi voida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kierrättää  80 %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kstikehys 4"/>
          <p:cNvSpPr/>
          <p:nvPr/>
        </p:nvSpPr>
        <p:spPr>
          <a:xfrm>
            <a:off x="4214880" y="1428840"/>
            <a:ext cx="1428840" cy="368280"/>
          </a:xfrm>
          <a:prstGeom prst="rect">
            <a:avLst/>
          </a:prstGeom>
          <a:solidFill>
            <a:srgbClr val="006d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keräyks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kstikehys 5"/>
          <p:cNvSpPr/>
          <p:nvPr/>
        </p:nvSpPr>
        <p:spPr>
          <a:xfrm>
            <a:off x="5572080" y="3286080"/>
            <a:ext cx="1428840" cy="916920"/>
          </a:xfrm>
          <a:prstGeom prst="rect">
            <a:avLst/>
          </a:prstGeom>
          <a:solidFill>
            <a:srgbClr val="006d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Uudelleen käytettävät metall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1T12:43:31Z</dcterms:created>
  <dc:creator>Ritva Tamminen</dc:creator>
  <dc:description/>
  <dc:language>en-US</dc:language>
  <cp:lastModifiedBy>Ritva Tamminen</cp:lastModifiedBy>
  <dcterms:modified xsi:type="dcterms:W3CDTF">2009-02-22T10:46:41Z</dcterms:modified>
  <cp:revision>17</cp:revision>
  <dc:subject/>
  <dc:title>Dia 1</dc:title>
</cp:coreProperties>
</file>