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9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593B-6738-47D1-84B0-37B9C3C7D09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7016-A640-4669-8C60-BF52236A6B6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0722-6044-409A-83DD-A9ECE7D7F46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41F3-AD3E-422E-A6AA-2A0820008DA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07EB-FA1B-449A-A8AF-18EB50BABB3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58C4-356C-45B0-993F-DC283D964A7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9135-5796-460B-9064-07E9ABAEB05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24F-8D2F-4505-B54C-BC16F975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FAF-BB3F-4EB7-ABBA-59AE3EEF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A01-528C-433A-801E-F8C18B61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2EB-0F38-44E1-8EB8-1B4560BC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F128-E935-44C8-AA77-5B8A9B56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7363-E75E-4D8A-B97D-DA7A6339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04FE-E0F5-48BC-A734-1CA93C46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B8A0-0ACD-4E5C-97E0-E0C1F495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FD0E-F1BE-4D16-B80C-77829B94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0FC9-C142-4A49-9FF9-DF19A948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C887-11B7-4C0D-AD84-1DB1FD25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000-811A-41C9-8B79-9B4F9FFF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EB76-85E0-40F0-95D9-A83ABA1D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1EEF-E3BC-4FA9-8E65-62EE2C34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5F09-8B5D-4202-A059-FC6C0ECE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9961-CA9B-4278-BBAA-95C11AE2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92A4-6194-4DD1-84A2-392B3BB9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6F9-6511-4E46-B858-70676DA2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CF4-6D40-49AB-830F-C657D7CC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411-AE7E-4DC2-A5D3-E444CCAA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5D6-71B5-4BF4-8C67-2244BFB8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8E5-3496-48E9-B790-58829FA9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BE8-4B3A-4576-AD96-FD5036C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4A9-4682-4BD2-A41E-5290549F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53D0-AB96-4884-B569-03A4CEED6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C1E2-E82B-4411-9908-D48E7F70C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://www.monald-metals.lv/images/1-p-cent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0" name="Tekstikehys 1"/>
          <p:cNvSpPr/>
          <p:nvPr/>
        </p:nvSpPr>
        <p:spPr>
          <a:xfrm>
            <a:off x="357120" y="2786040"/>
            <a:ext cx="8786880" cy="1191240"/>
          </a:xfrm>
          <a:prstGeom prst="rect">
            <a:avLst/>
          </a:prstGeom>
          <a:noFill/>
          <a:ln w="936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etalleja löytyy kaikkialta ympäristöstäs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tä metalliesineitä löydät luokas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ikehys 2"/>
          <p:cNvSpPr/>
          <p:nvPr/>
        </p:nvSpPr>
        <p:spPr>
          <a:xfrm>
            <a:off x="747720" y="4286160"/>
            <a:ext cx="73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eti erilaisia metallien käyttötapo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1428840" cy="101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714680" y="428760"/>
            <a:ext cx="1879560" cy="1271520"/>
          </a:xfrm>
          <a:prstGeom prst="rect">
            <a:avLst/>
          </a:prstGeom>
          <a:ln w="0">
            <a:noFill/>
          </a:ln>
        </p:spPr>
      </p:pic>
      <p:sp>
        <p:nvSpPr>
          <p:cNvPr id="94" name="Tekstikehys 5"/>
          <p:cNvSpPr/>
          <p:nvPr/>
        </p:nvSpPr>
        <p:spPr>
          <a:xfrm>
            <a:off x="4156920" y="785880"/>
            <a:ext cx="33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t ja bussit valmisteta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äksestä, joka on pää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ssa raut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ikehys 7"/>
          <p:cNvSpPr/>
          <p:nvPr/>
        </p:nvSpPr>
        <p:spPr>
          <a:xfrm>
            <a:off x="5096160" y="2214720"/>
            <a:ext cx="36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parijohtimilla kuljetetaan sähkö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. tietokoneeseen, ja myö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oriste-esinein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sapp-pic"/>
          <p:cNvPicPr/>
          <p:nvPr/>
        </p:nvPicPr>
        <p:blipFill>
          <a:blip r:embed="rId3"/>
          <a:stretch/>
        </p:blipFill>
        <p:spPr>
          <a:xfrm>
            <a:off x="357120" y="2071800"/>
            <a:ext cx="2214720" cy="155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rcRect l="0" t="0" r="24959" b="26038"/>
          <a:stretch/>
        </p:blipFill>
        <p:spPr>
          <a:xfrm>
            <a:off x="285840" y="4214880"/>
            <a:ext cx="2147760" cy="193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5"/>
          <a:stretch/>
        </p:blipFill>
        <p:spPr>
          <a:xfrm>
            <a:off x="2643120" y="4643280"/>
            <a:ext cx="1897200" cy="1357560"/>
          </a:xfrm>
          <a:prstGeom prst="rect">
            <a:avLst/>
          </a:prstGeom>
          <a:ln w="0">
            <a:noFill/>
          </a:ln>
        </p:spPr>
      </p:pic>
      <p:sp>
        <p:nvSpPr>
          <p:cNvPr id="99" name="Tekstikehys 13"/>
          <p:cNvSpPr/>
          <p:nvPr/>
        </p:nvSpPr>
        <p:spPr>
          <a:xfrm>
            <a:off x="4739760" y="47149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tokoneet päällystetään alumiin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omatölkit ovat pääasiassa alumi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copper%20mixiing%20bowl%206"/>
          <p:cNvPicPr/>
          <p:nvPr/>
        </p:nvPicPr>
        <p:blipFill>
          <a:blip r:embed="rId6"/>
          <a:stretch/>
        </p:blipFill>
        <p:spPr>
          <a:xfrm>
            <a:off x="2963880" y="200016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"/>
          <p:cNvPicPr/>
          <p:nvPr/>
        </p:nvPicPr>
        <p:blipFill>
          <a:blip r:embed="rId1"/>
          <a:srcRect l="0" t="0" r="16163" b="1307"/>
          <a:stretch/>
        </p:blipFill>
        <p:spPr>
          <a:xfrm>
            <a:off x="0" y="1285920"/>
            <a:ext cx="5124600" cy="1928880"/>
          </a:xfrm>
          <a:prstGeom prst="rect">
            <a:avLst/>
          </a:prstGeom>
          <a:ln w="0">
            <a:noFill/>
          </a:ln>
        </p:spPr>
      </p:pic>
      <p:sp>
        <p:nvSpPr>
          <p:cNvPr id="102" name="Tekstikehys 6"/>
          <p:cNvSpPr/>
          <p:nvPr/>
        </p:nvSpPr>
        <p:spPr>
          <a:xfrm>
            <a:off x="5663520" y="1428840"/>
            <a:ext cx="346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yijyä käytetään lasimaalaus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jaukseen, ja tinasta void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mistaa kehyksi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142920" y="3571920"/>
            <a:ext cx="4780080" cy="3036960"/>
          </a:xfrm>
          <a:prstGeom prst="rect">
            <a:avLst/>
          </a:prstGeom>
          <a:ln w="0">
            <a:noFill/>
          </a:ln>
        </p:spPr>
      </p:pic>
      <p:sp>
        <p:nvSpPr>
          <p:cNvPr id="104" name="Suorakulmio 11"/>
          <p:cNvSpPr/>
          <p:nvPr/>
        </p:nvSpPr>
        <p:spPr>
          <a:xfrm>
            <a:off x="5000760" y="4572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itain metalleja voidaan käyttää väri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"/>
          <p:cNvPicPr/>
          <p:nvPr/>
        </p:nvPicPr>
        <p:blipFill>
          <a:blip r:embed="rId1"/>
          <a:srcRect l="33130" t="-215" r="932" b="30733"/>
          <a:stretch/>
        </p:blipFill>
        <p:spPr>
          <a:xfrm>
            <a:off x="428760" y="500040"/>
            <a:ext cx="2214360" cy="3403800"/>
          </a:xfrm>
          <a:prstGeom prst="rect">
            <a:avLst/>
          </a:prstGeom>
          <a:ln w="0">
            <a:noFill/>
          </a:ln>
        </p:spPr>
      </p:pic>
      <p:sp>
        <p:nvSpPr>
          <p:cNvPr id="106" name="Tekstikehys 2"/>
          <p:cNvSpPr/>
          <p:nvPr/>
        </p:nvSpPr>
        <p:spPr>
          <a:xfrm>
            <a:off x="2819520" y="78588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lman kalsiumia lihakset ja luut eivät kasva eivätkä to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rcRect l="54198" t="957" r="0" b="45236"/>
          <a:stretch/>
        </p:blipFill>
        <p:spPr>
          <a:xfrm>
            <a:off x="500040" y="3714840"/>
            <a:ext cx="228600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Tekstikehys 4"/>
          <p:cNvSpPr/>
          <p:nvPr/>
        </p:nvSpPr>
        <p:spPr>
          <a:xfrm>
            <a:off x="3813480" y="4143240"/>
            <a:ext cx="44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liumin yhdisteitä käytetään ilotulittei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aukaisu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3574" t="0" r="59351" b="60740"/>
          <a:stretch/>
        </p:blipFill>
        <p:spPr>
          <a:xfrm>
            <a:off x="785880" y="571680"/>
            <a:ext cx="2967120" cy="1833480"/>
          </a:xfrm>
          <a:prstGeom prst="rect">
            <a:avLst/>
          </a:prstGeom>
          <a:ln w="0">
            <a:noFill/>
          </a:ln>
        </p:spPr>
      </p:pic>
      <p:sp>
        <p:nvSpPr>
          <p:cNvPr id="110" name="Tekstikehys 2"/>
          <p:cNvSpPr/>
          <p:nvPr/>
        </p:nvSpPr>
        <p:spPr>
          <a:xfrm>
            <a:off x="4337640" y="9288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mericiumia käytetään palovaroittim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rcRect l="6338" t="9096" r="32857" b="4541"/>
          <a:stretch/>
        </p:blipFill>
        <p:spPr>
          <a:xfrm>
            <a:off x="714240" y="3000240"/>
            <a:ext cx="2714760" cy="2149560"/>
          </a:xfrm>
          <a:prstGeom prst="rect">
            <a:avLst/>
          </a:prstGeom>
          <a:ln w="0">
            <a:noFill/>
          </a:ln>
        </p:spPr>
      </p:pic>
      <p:sp>
        <p:nvSpPr>
          <p:cNvPr id="112" name="Tekstikehys 4"/>
          <p:cNvSpPr/>
          <p:nvPr/>
        </p:nvSpPr>
        <p:spPr>
          <a:xfrm>
            <a:off x="4237920" y="364320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eodyniumistä valmistet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iuttimia  stereokorvakuulokkei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5771" t="3751" r="480" b="11878"/>
          <a:stretch/>
        </p:blipFill>
        <p:spPr>
          <a:xfrm>
            <a:off x="500040" y="1143000"/>
            <a:ext cx="6707160" cy="4643280"/>
          </a:xfrm>
          <a:prstGeom prst="rect">
            <a:avLst/>
          </a:prstGeom>
          <a:ln w="0">
            <a:noFill/>
          </a:ln>
        </p:spPr>
      </p:pic>
      <p:sp>
        <p:nvSpPr>
          <p:cNvPr id="114" name="Tekstikehys 3"/>
          <p:cNvSpPr/>
          <p:nvPr/>
        </p:nvSpPr>
        <p:spPr>
          <a:xfrm>
            <a:off x="6081480" y="1285920"/>
            <a:ext cx="25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sitkö, että vanha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nnykästäsi void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ierrättää  80 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ikehys 4"/>
          <p:cNvSpPr/>
          <p:nvPr/>
        </p:nvSpPr>
        <p:spPr>
          <a:xfrm>
            <a:off x="4214880" y="1428840"/>
            <a:ext cx="1428840" cy="36828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räyk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ikehys 5"/>
          <p:cNvSpPr/>
          <p:nvPr/>
        </p:nvSpPr>
        <p:spPr>
          <a:xfrm>
            <a:off x="5572080" y="3286080"/>
            <a:ext cx="1428840" cy="91692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udelleen käytettävät metal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0:46:41Z</dcterms:modified>
  <cp:revision>17</cp:revision>
  <dc:subject/>
  <dc:title>Dia 1</dc:title>
</cp:coreProperties>
</file>