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55D5-7E6E-4B4C-A5B8-C7D03F0D5E2A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9279-F19E-4C35-8575-143A20264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633-2E3E-4BB4-B78D-1E2D125D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C2E-CBA5-45CC-A62A-9BFE59D6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811-1EBA-4230-907F-EF8A7A0C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17F-2A51-4C62-BF4A-3BB14F1D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116C-DE52-40D0-87B3-220407C9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E9FA-6A59-4809-92A8-1D4E6700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D1E3-B105-464C-A0EC-13ABA6D1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705E-BEDF-4FF3-A776-9D8F3AA9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4196-58F2-4F5C-8F51-43821CEA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1A1E-EE90-4902-95A0-950B014D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2DA9-F37B-482F-8120-844EFEFC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BE3C-4B79-4CDB-A6CE-FE520ACD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0BA0-E016-4A44-A3CF-D5F1034A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4F3E-6FD1-4FDC-AC1E-B52EB358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24B4-A0DE-408A-A902-00E7A990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8E5D-C85E-4950-9465-BAE7E848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7934-C377-4666-B8B9-1A250504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AF3-6EFD-4F74-B012-05CF0DEE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DDE-17DA-49A7-8385-D11818C2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34F-E661-4770-AF3B-9270C012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026-5F29-4045-9F0E-B67F9745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698-7668-4F13-A7D2-BB4E1E3B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C48C-1DAE-46D7-9201-00A98480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C3B-0BF6-48E6-AB7C-87F404EB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B74C-B409-4B0F-825E-6EA24CA8E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91DD-713C-4CD1-B54A-677D93491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etallien valmistus mineraal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600200" y="762120"/>
            <a:ext cx="1905120" cy="59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l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l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umi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nk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yij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up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u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7"/>
          <p:cNvGrpSpPr/>
          <p:nvPr/>
        </p:nvGrpSpPr>
        <p:grpSpPr>
          <a:xfrm>
            <a:off x="228600" y="838080"/>
            <a:ext cx="1295280" cy="5562720"/>
            <a:chOff x="228600" y="838080"/>
            <a:chExt cx="1295280" cy="5562720"/>
          </a:xfrm>
        </p:grpSpPr>
        <p:sp>
          <p:nvSpPr>
            <p:cNvPr id="92" name="AutoShape 4"/>
            <p:cNvSpPr/>
            <p:nvPr/>
          </p:nvSpPr>
          <p:spPr>
            <a:xfrm>
              <a:off x="990720" y="838080"/>
              <a:ext cx="533160" cy="5562720"/>
            </a:xfrm>
            <a:prstGeom prst="upArrow">
              <a:avLst>
                <a:gd name="adj1" fmla="val 50000"/>
                <a:gd name="adj2" fmla="val 260837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WordArt 5"/>
            <p:cNvSpPr txBox="1"/>
            <p:nvPr/>
          </p:nvSpPr>
          <p:spPr>
            <a:xfrm rot="16200000">
              <a:off x="-2028600" y="3247920"/>
              <a:ext cx="51624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cc"/>
                  </a:solidFill>
                  <a:latin typeface="Arial Black"/>
                </a:rPr>
                <a:t>Reaktiokyky kasva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4" name="Rectangle 10"/>
          <p:cNvSpPr/>
          <p:nvPr/>
        </p:nvSpPr>
        <p:spPr>
          <a:xfrm>
            <a:off x="1752480" y="685800"/>
            <a:ext cx="1524240" cy="22096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981080" y="3276720"/>
            <a:ext cx="1067040" cy="2133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1828800" y="5486400"/>
            <a:ext cx="137160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3352680" y="1447920"/>
            <a:ext cx="5105520" cy="1008720"/>
            <a:chOff x="3352680" y="1447920"/>
            <a:chExt cx="5105520" cy="1008720"/>
          </a:xfrm>
        </p:grpSpPr>
        <p:sp>
          <p:nvSpPr>
            <p:cNvPr id="98" name="Text Box 6"/>
            <p:cNvSpPr/>
            <p:nvPr/>
          </p:nvSpPr>
          <p:spPr>
            <a:xfrm>
              <a:off x="4191120" y="1447920"/>
              <a:ext cx="4267080" cy="10087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ämä metallit ovat erittäin reaktiivisia, ne valmistetaan mineraaleista elektrolyysin avul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4"/>
            <p:cNvSpPr/>
            <p:nvPr/>
          </p:nvSpPr>
          <p:spPr>
            <a:xfrm>
              <a:off x="3352680" y="1828800"/>
              <a:ext cx="762120" cy="304920"/>
            </a:xfrm>
            <a:prstGeom prst="leftArrow">
              <a:avLst>
                <a:gd name="adj1" fmla="val 50000"/>
                <a:gd name="adj2" fmla="val 62485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9"/>
          <p:cNvGrpSpPr/>
          <p:nvPr/>
        </p:nvGrpSpPr>
        <p:grpSpPr>
          <a:xfrm>
            <a:off x="3071880" y="3143160"/>
            <a:ext cx="5790600" cy="1618560"/>
            <a:chOff x="3071880" y="3143160"/>
            <a:chExt cx="5790600" cy="1618560"/>
          </a:xfrm>
        </p:grpSpPr>
        <p:sp>
          <p:nvSpPr>
            <p:cNvPr id="101" name="Text Box 7"/>
            <p:cNvSpPr/>
            <p:nvPr/>
          </p:nvSpPr>
          <p:spPr>
            <a:xfrm>
              <a:off x="4748040" y="3143160"/>
              <a:ext cx="4114440" cy="16185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ämä metallit  esiintyvät yleensä oksideina tai sulfideina. Ne pelkistetään metalliksi  kuumentamalla niitä hiilen kanssa masuunis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5"/>
            <p:cNvSpPr/>
            <p:nvPr/>
          </p:nvSpPr>
          <p:spPr>
            <a:xfrm>
              <a:off x="3071880" y="3524040"/>
              <a:ext cx="1599840" cy="304200"/>
            </a:xfrm>
            <a:prstGeom prst="leftArrow">
              <a:avLst>
                <a:gd name="adj1" fmla="val 50000"/>
                <a:gd name="adj2" fmla="val 13147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0"/>
          <p:cNvGrpSpPr/>
          <p:nvPr/>
        </p:nvGrpSpPr>
        <p:grpSpPr>
          <a:xfrm>
            <a:off x="3276720" y="5029200"/>
            <a:ext cx="5486400" cy="1066680"/>
            <a:chOff x="3276720" y="5029200"/>
            <a:chExt cx="5486400" cy="1066680"/>
          </a:xfrm>
        </p:grpSpPr>
        <p:sp>
          <p:nvSpPr>
            <p:cNvPr id="104" name="Text Box 8"/>
            <p:cNvSpPr/>
            <p:nvPr/>
          </p:nvSpPr>
          <p:spPr>
            <a:xfrm>
              <a:off x="3886200" y="5029200"/>
              <a:ext cx="4876920" cy="100872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ämä metallit reagoivat huonosti muiden aineiden kanssa, ja esiintyvät alkuainee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6"/>
            <p:cNvSpPr/>
            <p:nvPr/>
          </p:nvSpPr>
          <p:spPr>
            <a:xfrm>
              <a:off x="3276720" y="5791320"/>
              <a:ext cx="533160" cy="304560"/>
            </a:xfrm>
            <a:prstGeom prst="leftArrow">
              <a:avLst>
                <a:gd name="adj1" fmla="val 50000"/>
                <a:gd name="adj2" fmla="val 43765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2:43:31Z</dcterms:created>
  <dc:creator>Ritva Tamminen</dc:creator>
  <dc:description/>
  <dc:language>en-US</dc:language>
  <cp:lastModifiedBy>Ritva Tamminen</cp:lastModifiedBy>
  <dcterms:modified xsi:type="dcterms:W3CDTF">2009-02-22T11:15:00Z</dcterms:modified>
  <cp:revision>18</cp:revision>
  <dc:subject/>
  <dc:title>Dia 1</dc:title>
</cp:coreProperties>
</file>