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EE9F-6D4D-49C5-B0A7-36465C4B882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83D5-4CFA-4B47-ACEA-DD329E29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9C9-B9AF-4D5C-8618-125BE27B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764-7FDB-496C-BCE4-E97E3E4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5EE-8B3B-4356-A07F-3F1C7D04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89F-3C1A-48A9-856D-30EDE782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F78-C6DB-42CE-95A6-1C70EEB4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2A4A-BBF2-48EC-A862-2297A39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846-106C-430A-8BF5-4A6B0A30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A51-31F5-42F9-932C-C5E97F1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617-F9A6-44F4-9CD8-4FF10BBD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06D-269F-419B-AB05-FE875B5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4E28-F805-4257-A716-A9D67629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B19-3FBC-495C-822A-F9830142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2CE3-D8B1-4430-A0EF-F4BDB6AD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0BCD-ED9C-4359-B579-20CA3B1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D98E-0B61-418E-B870-8796FD3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FD5D-75E8-490C-BE07-CC48479F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0CF6-1349-4104-89D6-F4287B67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5A9-CE32-4C18-B799-BFA89BD8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F8D-3738-4C52-99AA-7436B21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4A5-F906-45E2-B4DA-F1D96164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63B-967A-43EB-8598-6342F313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89B-C34E-40FE-8FCA-87CB8C7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A6C-F4A3-473F-B910-0F9C9A43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86A-134F-49A2-AAC5-F2930D1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9E2A-0547-4984-856C-5967307A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4B84-9A7E-4411-A3D4-D6236921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tallien valmistus mineraa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00200" y="762120"/>
            <a:ext cx="19051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umi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yij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p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28600" y="838080"/>
            <a:ext cx="1295280" cy="5562720"/>
            <a:chOff x="228600" y="838080"/>
            <a:chExt cx="1295280" cy="5562720"/>
          </a:xfrm>
        </p:grpSpPr>
        <p:sp>
          <p:nvSpPr>
            <p:cNvPr id="92" name="AutoShape 4"/>
            <p:cNvSpPr/>
            <p:nvPr/>
          </p:nvSpPr>
          <p:spPr>
            <a:xfrm>
              <a:off x="990720" y="838080"/>
              <a:ext cx="533160" cy="5562720"/>
            </a:xfrm>
            <a:prstGeom prst="upArrow">
              <a:avLst>
                <a:gd name="adj1" fmla="val 50000"/>
                <a:gd name="adj2" fmla="val 26083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5"/>
            <p:cNvSpPr txBox="1"/>
            <p:nvPr/>
          </p:nvSpPr>
          <p:spPr>
            <a:xfrm rot="16200000">
              <a:off x="-2028600" y="3247920"/>
              <a:ext cx="51624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Reaktiokyky kasva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1752480" y="685800"/>
            <a:ext cx="1524240" cy="22096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981080" y="3276720"/>
            <a:ext cx="1067040" cy="21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828800" y="5486400"/>
            <a:ext cx="137160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3352680" y="1447920"/>
            <a:ext cx="5105520" cy="1008720"/>
            <a:chOff x="3352680" y="1447920"/>
            <a:chExt cx="5105520" cy="1008720"/>
          </a:xfrm>
        </p:grpSpPr>
        <p:sp>
          <p:nvSpPr>
            <p:cNvPr id="98" name="Text Box 6"/>
            <p:cNvSpPr/>
            <p:nvPr/>
          </p:nvSpPr>
          <p:spPr>
            <a:xfrm>
              <a:off x="4191120" y="1447920"/>
              <a:ext cx="4267080" cy="1008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ovat erittäin reaktiivisia, ne valmistetaan mineraaleista elektrolyysin avul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3352680" y="1828800"/>
              <a:ext cx="762120" cy="304920"/>
            </a:xfrm>
            <a:prstGeom prst="leftArrow">
              <a:avLst>
                <a:gd name="adj1" fmla="val 50000"/>
                <a:gd name="adj2" fmla="val 62485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3071880" y="3143160"/>
            <a:ext cx="5790600" cy="1618560"/>
            <a:chOff x="3071880" y="3143160"/>
            <a:chExt cx="5790600" cy="1618560"/>
          </a:xfrm>
        </p:grpSpPr>
        <p:sp>
          <p:nvSpPr>
            <p:cNvPr id="101" name="Text Box 7"/>
            <p:cNvSpPr/>
            <p:nvPr/>
          </p:nvSpPr>
          <p:spPr>
            <a:xfrm>
              <a:off x="4748040" y="3143160"/>
              <a:ext cx="4114440" cy="1618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 esiintyvät yleensä oksideina tai sulfideina. Ne pelkistetään metalliksi  kuumentamalla niitä hiilen kanssa masuuni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3071880" y="3524040"/>
              <a:ext cx="1599840" cy="304200"/>
            </a:xfrm>
            <a:prstGeom prst="leftArrow">
              <a:avLst>
                <a:gd name="adj1" fmla="val 50000"/>
                <a:gd name="adj2" fmla="val 131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3276720" y="5029200"/>
            <a:ext cx="5486400" cy="1066680"/>
            <a:chOff x="3276720" y="5029200"/>
            <a:chExt cx="5486400" cy="1066680"/>
          </a:xfrm>
        </p:grpSpPr>
        <p:sp>
          <p:nvSpPr>
            <p:cNvPr id="104" name="Text Box 8"/>
            <p:cNvSpPr/>
            <p:nvPr/>
          </p:nvSpPr>
          <p:spPr>
            <a:xfrm>
              <a:off x="3886200" y="5029200"/>
              <a:ext cx="4876920" cy="100872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reagoivat huonosti muiden aineiden kanssa, ja esiintyvät alkuainee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3276720" y="5791320"/>
              <a:ext cx="533160" cy="304560"/>
            </a:xfrm>
            <a:prstGeom prst="leftArrow">
              <a:avLst>
                <a:gd name="adj1" fmla="val 50000"/>
                <a:gd name="adj2" fmla="val 43765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15:00Z</dcterms:modified>
  <cp:revision>18</cp:revision>
  <dc:subject/>
  <dc:title>Dia 1</dc:title>
</cp:coreProperties>
</file>