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C45A-E33F-469D-8AE0-27578A6ADAAF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734A-6E7D-451C-AC47-F202C2BB7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0776-F1D1-487F-93D1-6E379A4F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032-19FB-42E6-BDD7-FD5CDD48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FAF2-39CD-4C0D-B0CB-87EDDFA1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328-4112-4228-9399-E4CCAC49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8A8F-538B-4188-9A6B-3456E5A0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7352-0DE3-4A1C-AB96-205EB358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BEF9-34C7-40DD-AB9C-DF6D0F3A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ADB3-506B-4A52-9846-FC4E7AFD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2BB8-7F85-4B40-933D-98D5D09D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F477-EFC2-44DC-9B19-98138564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3F8A-0712-41CC-9D14-E7F6B881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EB1-5E51-44CA-AA8F-EB8C62C2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CFD2-04C1-459B-9106-EEC2BC66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993C-9585-4656-9022-9010AC84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946B-70AD-4A2A-99F4-BA3D8800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FFD8-B026-424B-A7B2-A119684A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78A0-D5B3-42FF-994F-78399733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8AC-12E2-4F3B-9ACE-33DA9CB8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A63-047E-45F5-8496-ECBC945A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1CB-9997-455C-8D7C-E1C1C353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3388-9F3D-4E06-BCCA-E09EAAB9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774-0D39-4445-BB2D-E13FD058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14F-F01A-4E9D-808C-2E1D0CA5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A0A-2E5A-4FEE-BED2-A7034615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E34E-A906-498F-80CB-D89C96B75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2145-AD0C-46E7-94F3-FACFE0E66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etallien valmistus mineraali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600200" y="762120"/>
            <a:ext cx="1905120" cy="59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al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al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umi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nk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yij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up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u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7"/>
          <p:cNvGrpSpPr/>
          <p:nvPr/>
        </p:nvGrpSpPr>
        <p:grpSpPr>
          <a:xfrm>
            <a:off x="228600" y="838080"/>
            <a:ext cx="1295280" cy="5562720"/>
            <a:chOff x="228600" y="838080"/>
            <a:chExt cx="1295280" cy="5562720"/>
          </a:xfrm>
        </p:grpSpPr>
        <p:sp>
          <p:nvSpPr>
            <p:cNvPr id="92" name="AutoShape 4"/>
            <p:cNvSpPr/>
            <p:nvPr/>
          </p:nvSpPr>
          <p:spPr>
            <a:xfrm>
              <a:off x="990720" y="838080"/>
              <a:ext cx="533160" cy="5562720"/>
            </a:xfrm>
            <a:prstGeom prst="upArrow">
              <a:avLst>
                <a:gd name="adj1" fmla="val 50000"/>
                <a:gd name="adj2" fmla="val 260837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WordArt 5"/>
            <p:cNvSpPr txBox="1"/>
            <p:nvPr/>
          </p:nvSpPr>
          <p:spPr>
            <a:xfrm rot="16200000">
              <a:off x="-2028600" y="3247920"/>
              <a:ext cx="51624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cc"/>
                  </a:solidFill>
                  <a:latin typeface="Arial Black"/>
                </a:rPr>
                <a:t>Reaktiokyky kasva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4" name="Rectangle 10"/>
          <p:cNvSpPr/>
          <p:nvPr/>
        </p:nvSpPr>
        <p:spPr>
          <a:xfrm>
            <a:off x="1752480" y="685800"/>
            <a:ext cx="1524240" cy="22096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981080" y="3276720"/>
            <a:ext cx="1067040" cy="2133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1828800" y="5486400"/>
            <a:ext cx="1371600" cy="1143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3352680" y="1447920"/>
            <a:ext cx="5105520" cy="1008720"/>
            <a:chOff x="3352680" y="1447920"/>
            <a:chExt cx="5105520" cy="1008720"/>
          </a:xfrm>
        </p:grpSpPr>
        <p:sp>
          <p:nvSpPr>
            <p:cNvPr id="98" name="Text Box 6"/>
            <p:cNvSpPr/>
            <p:nvPr/>
          </p:nvSpPr>
          <p:spPr>
            <a:xfrm>
              <a:off x="4191120" y="1447920"/>
              <a:ext cx="4267080" cy="10087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ämä metallit ovat erittäin reaktiivisia, ne valmistetaan mineraaleista elektrolyysin avul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4"/>
            <p:cNvSpPr/>
            <p:nvPr/>
          </p:nvSpPr>
          <p:spPr>
            <a:xfrm>
              <a:off x="3352680" y="1828800"/>
              <a:ext cx="762120" cy="304920"/>
            </a:xfrm>
            <a:prstGeom prst="leftArrow">
              <a:avLst>
                <a:gd name="adj1" fmla="val 50000"/>
                <a:gd name="adj2" fmla="val 62485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9"/>
          <p:cNvGrpSpPr/>
          <p:nvPr/>
        </p:nvGrpSpPr>
        <p:grpSpPr>
          <a:xfrm>
            <a:off x="3071880" y="3143160"/>
            <a:ext cx="5790600" cy="1618560"/>
            <a:chOff x="3071880" y="3143160"/>
            <a:chExt cx="5790600" cy="1618560"/>
          </a:xfrm>
        </p:grpSpPr>
        <p:sp>
          <p:nvSpPr>
            <p:cNvPr id="101" name="Text Box 7"/>
            <p:cNvSpPr/>
            <p:nvPr/>
          </p:nvSpPr>
          <p:spPr>
            <a:xfrm>
              <a:off x="4748040" y="3143160"/>
              <a:ext cx="4114440" cy="16185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ämä metallit  esiintyvät yleensä oksideina tai sulfideina. Ne pelkistetään metalliksi  kuumentamalla niitä hiilen kanssa masuunis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15"/>
            <p:cNvSpPr/>
            <p:nvPr/>
          </p:nvSpPr>
          <p:spPr>
            <a:xfrm>
              <a:off x="3071880" y="3524040"/>
              <a:ext cx="1599840" cy="304200"/>
            </a:xfrm>
            <a:prstGeom prst="leftArrow">
              <a:avLst>
                <a:gd name="adj1" fmla="val 50000"/>
                <a:gd name="adj2" fmla="val 13147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0"/>
          <p:cNvGrpSpPr/>
          <p:nvPr/>
        </p:nvGrpSpPr>
        <p:grpSpPr>
          <a:xfrm>
            <a:off x="3276720" y="5029200"/>
            <a:ext cx="5486400" cy="1066680"/>
            <a:chOff x="3276720" y="5029200"/>
            <a:chExt cx="5486400" cy="1066680"/>
          </a:xfrm>
        </p:grpSpPr>
        <p:sp>
          <p:nvSpPr>
            <p:cNvPr id="104" name="Text Box 8"/>
            <p:cNvSpPr/>
            <p:nvPr/>
          </p:nvSpPr>
          <p:spPr>
            <a:xfrm>
              <a:off x="3886200" y="5029200"/>
              <a:ext cx="4876920" cy="1008720"/>
            </a:xfrm>
            <a:prstGeom prst="rect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ämä metallit reagoivat huonosti muiden aineiden kanssa, ja esiintyvät alkuainee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6"/>
            <p:cNvSpPr/>
            <p:nvPr/>
          </p:nvSpPr>
          <p:spPr>
            <a:xfrm>
              <a:off x="3276720" y="5791320"/>
              <a:ext cx="533160" cy="304560"/>
            </a:xfrm>
            <a:prstGeom prst="leftArrow">
              <a:avLst>
                <a:gd name="adj1" fmla="val 50000"/>
                <a:gd name="adj2" fmla="val 43765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2:43:31Z</dcterms:created>
  <dc:creator>Ritva Tamminen</dc:creator>
  <dc:description/>
  <dc:language>en-US</dc:language>
  <cp:lastModifiedBy>Ritva Tamminen</cp:lastModifiedBy>
  <dcterms:modified xsi:type="dcterms:W3CDTF">2009-02-22T11:15:00Z</dcterms:modified>
  <cp:revision>18</cp:revision>
  <dc:subject/>
  <dc:title>Dia 1</dc:title>
</cp:coreProperties>
</file>