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0F4-BAAC-4702-A6BF-08F6BF8816B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8942-FD9A-448D-95F0-049C4308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546-60C0-4941-95AB-4A6C6E3E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895-E34A-46B2-AB39-6719A78C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4E2-F03F-460A-BB09-EC5CEF1A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570-05C1-469E-810D-6251DCD4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2F6F-6AA5-4BD8-9998-16836290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3B2-DF44-4AD7-9680-B4B6F2F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676B-E315-439B-B0E9-99D8C98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D5D8-AA06-41E1-B846-ABA3B4D4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B986-29C2-440B-BCDE-DD2A5206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1B94-E995-441F-8EDF-16AE7D20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827-B549-42B5-98BD-45966AB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38D-5F1A-4108-9D3B-E44D702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6DA8-A167-47FD-BBEE-6D2ED68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B952-E886-43B2-81A5-03E960B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387-18A8-4F36-9F4B-DB5CB1C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F7C-AF1A-466D-A022-D5C97D73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EE7-D1AA-416B-AE11-2BD91AD4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120-8FCA-4C9D-ABC4-DFFB69F8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CB3-4C47-454E-93E6-6AC5305E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167-F3DC-474B-A5DF-93D6310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1C1-F0B8-433B-86EB-6E7882DE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3CC-F444-445A-8B8E-92C00D7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0F1-47AE-4008-BC52-7F224D5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623-2416-487C-AD37-E1E0955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112-B952-48E7-B37A-6BBB2FBD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E88-8355-45DC-914C-00800F72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tallien valmistus mineraa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00200" y="762120"/>
            <a:ext cx="1905120" cy="59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l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umi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yij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p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28600" y="838080"/>
            <a:ext cx="1295280" cy="5562720"/>
            <a:chOff x="228600" y="838080"/>
            <a:chExt cx="1295280" cy="5562720"/>
          </a:xfrm>
        </p:grpSpPr>
        <p:sp>
          <p:nvSpPr>
            <p:cNvPr id="92" name="AutoShape 4"/>
            <p:cNvSpPr/>
            <p:nvPr/>
          </p:nvSpPr>
          <p:spPr>
            <a:xfrm>
              <a:off x="990720" y="838080"/>
              <a:ext cx="533160" cy="5562720"/>
            </a:xfrm>
            <a:prstGeom prst="upArrow">
              <a:avLst>
                <a:gd name="adj1" fmla="val 50000"/>
                <a:gd name="adj2" fmla="val 26083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5"/>
            <p:cNvSpPr txBox="1"/>
            <p:nvPr/>
          </p:nvSpPr>
          <p:spPr>
            <a:xfrm rot="16200000">
              <a:off x="-2028600" y="3247920"/>
              <a:ext cx="51624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Reaktiokyky kasva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1752480" y="685800"/>
            <a:ext cx="1524240" cy="22096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981080" y="3276720"/>
            <a:ext cx="1067040" cy="21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828800" y="5486400"/>
            <a:ext cx="137160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3352680" y="1447920"/>
            <a:ext cx="5105520" cy="1008720"/>
            <a:chOff x="3352680" y="1447920"/>
            <a:chExt cx="5105520" cy="1008720"/>
          </a:xfrm>
        </p:grpSpPr>
        <p:sp>
          <p:nvSpPr>
            <p:cNvPr id="98" name="Text Box 6"/>
            <p:cNvSpPr/>
            <p:nvPr/>
          </p:nvSpPr>
          <p:spPr>
            <a:xfrm>
              <a:off x="4191120" y="1447920"/>
              <a:ext cx="4267080" cy="1008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ovat erittäin reaktiivisia, ne valmistetaan mineraaleista elektrolyysin avul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3352680" y="1828800"/>
              <a:ext cx="762120" cy="304920"/>
            </a:xfrm>
            <a:prstGeom prst="leftArrow">
              <a:avLst>
                <a:gd name="adj1" fmla="val 50000"/>
                <a:gd name="adj2" fmla="val 62485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3071880" y="3143160"/>
            <a:ext cx="5790600" cy="1618560"/>
            <a:chOff x="3071880" y="3143160"/>
            <a:chExt cx="5790600" cy="1618560"/>
          </a:xfrm>
        </p:grpSpPr>
        <p:sp>
          <p:nvSpPr>
            <p:cNvPr id="101" name="Text Box 7"/>
            <p:cNvSpPr/>
            <p:nvPr/>
          </p:nvSpPr>
          <p:spPr>
            <a:xfrm>
              <a:off x="4748040" y="3143160"/>
              <a:ext cx="4114440" cy="1618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 esiintyvät yleensä oksideina tai sulfideina. Ne pelkistetään metalliksi  kuumentamalla niitä hiilen kanssa masuunis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5"/>
            <p:cNvSpPr/>
            <p:nvPr/>
          </p:nvSpPr>
          <p:spPr>
            <a:xfrm>
              <a:off x="3071880" y="3524040"/>
              <a:ext cx="1599840" cy="304200"/>
            </a:xfrm>
            <a:prstGeom prst="leftArrow">
              <a:avLst>
                <a:gd name="adj1" fmla="val 50000"/>
                <a:gd name="adj2" fmla="val 13147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0"/>
          <p:cNvGrpSpPr/>
          <p:nvPr/>
        </p:nvGrpSpPr>
        <p:grpSpPr>
          <a:xfrm>
            <a:off x="3276720" y="5029200"/>
            <a:ext cx="5486400" cy="1066680"/>
            <a:chOff x="3276720" y="5029200"/>
            <a:chExt cx="5486400" cy="1066680"/>
          </a:xfrm>
        </p:grpSpPr>
        <p:sp>
          <p:nvSpPr>
            <p:cNvPr id="104" name="Text Box 8"/>
            <p:cNvSpPr/>
            <p:nvPr/>
          </p:nvSpPr>
          <p:spPr>
            <a:xfrm>
              <a:off x="3886200" y="5029200"/>
              <a:ext cx="4876920" cy="100872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ämä metallit reagoivat huonosti muiden aineiden kanssa, ja esiintyvät alkuainee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3276720" y="5791320"/>
              <a:ext cx="533160" cy="304560"/>
            </a:xfrm>
            <a:prstGeom prst="leftArrow">
              <a:avLst>
                <a:gd name="adj1" fmla="val 50000"/>
                <a:gd name="adj2" fmla="val 43765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15:00Z</dcterms:modified>
  <cp:revision>18</cp:revision>
  <dc:subject/>
  <dc:title>Dia 1</dc:title>
</cp:coreProperties>
</file>