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0F62-4A95-4A52-ADFE-A26B018FA3FC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582C-57F8-47B8-A56E-C139BB5ECDB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0C43-3A91-4095-87CB-9141FF4E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E1F-825A-4C96-BF2B-34A4E9BF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A45-4138-44EF-9A61-F2432B6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E74-F788-4F8F-89C2-3CD9FFCA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37A-934E-4BC5-AD2B-FBB4C4B6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3F00-B482-40DB-BFC9-035C7B74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DFD5-5536-40EC-A079-595E3D7A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6C61-9D61-49E9-963D-B2FBE251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BFC1-E52D-4E96-AF29-C1FAC187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A03B-549C-4220-937E-02243F3E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3432-DEB9-4559-8809-6F2EB9C8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E698-F84C-4DC8-BABF-F38C72E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D0A-E61E-4A1B-BA53-DAF9F90B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359C-03BA-4098-A227-9D1BFADA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499A-34D3-4A5E-BBCA-5033095E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A18A-5157-465C-BA9A-1DB9326B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FDA7-9FD5-41CF-91C4-63D7735E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2BF-251F-4575-8704-95BB2738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27A-6321-45DB-837B-0B1CAAFA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AB4-C994-4293-94E1-5C79C10D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34A-D1A9-4F18-B654-2D7B5A81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FB2-1DD0-4613-929D-22D18172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F77-916E-4D28-B709-165B72B1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1F0-1F5B-422D-88A7-BE94F3A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ABD-41C7-48DA-A2B7-8CF4855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9BB3-D9CD-4AB6-A908-378E24E02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B8E4-C9A8-4B35-AC14-F6FB76C53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Arial"/>
              </a:rPr>
              <a:t>Raudan valmi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DD58-6D69-4529-B874-D92173D3404C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c6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u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0"/>
          <p:cNvGrpSpPr/>
          <p:nvPr/>
        </p:nvGrpSpPr>
        <p:grpSpPr>
          <a:xfrm>
            <a:off x="1332000" y="1549440"/>
            <a:ext cx="3886200" cy="4830480"/>
            <a:chOff x="1332000" y="1549440"/>
            <a:chExt cx="3886200" cy="4830480"/>
          </a:xfrm>
        </p:grpSpPr>
        <p:pic>
          <p:nvPicPr>
            <p:cNvPr id="94" name="Picture 14" descr="Blast furnace 2"/>
            <p:cNvPicPr/>
            <p:nvPr/>
          </p:nvPicPr>
          <p:blipFill>
            <a:blip r:embed="rId1"/>
            <a:srcRect l="20777" t="0" r="28570" b="0"/>
            <a:stretch/>
          </p:blipFill>
          <p:spPr>
            <a:xfrm>
              <a:off x="1789200" y="1549440"/>
              <a:ext cx="2971800" cy="48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"/>
            <p:cNvSpPr/>
            <p:nvPr/>
          </p:nvSpPr>
          <p:spPr>
            <a:xfrm>
              <a:off x="4608360" y="4749840"/>
              <a:ext cx="609840" cy="160020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4227480" y="2921040"/>
              <a:ext cx="609480" cy="160020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8"/>
            <p:cNvSpPr/>
            <p:nvPr/>
          </p:nvSpPr>
          <p:spPr>
            <a:xfrm>
              <a:off x="3922560" y="1549440"/>
              <a:ext cx="1143000" cy="60948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1332000" y="5359320"/>
              <a:ext cx="533160" cy="53352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8"/>
          <p:cNvGrpSpPr/>
          <p:nvPr/>
        </p:nvGrpSpPr>
        <p:grpSpPr>
          <a:xfrm>
            <a:off x="3657600" y="1066680"/>
            <a:ext cx="5181480" cy="990720"/>
            <a:chOff x="3657600" y="1066680"/>
            <a:chExt cx="5181480" cy="990720"/>
          </a:xfrm>
        </p:grpSpPr>
        <p:sp>
          <p:nvSpPr>
            <p:cNvPr id="100" name="Text Box 21"/>
            <p:cNvSpPr/>
            <p:nvPr/>
          </p:nvSpPr>
          <p:spPr>
            <a:xfrm>
              <a:off x="4495680" y="106668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dde"/>
                  </a:solidFill>
                  <a:latin typeface="Arial"/>
                </a:rPr>
                <a:t>1) Hematiitti (rautaoksidia), kalkkikivi ja hii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3657600" y="1905120"/>
              <a:ext cx="762120" cy="152280"/>
            </a:xfrm>
            <a:prstGeom prst="leftArrow">
              <a:avLst>
                <a:gd name="adj1" fmla="val 50000"/>
                <a:gd name="adj2" fmla="val 125118"/>
              </a:avLst>
            </a:prstGeom>
            <a:solidFill>
              <a:srgbClr val="006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4"/>
          <p:cNvGrpSpPr/>
          <p:nvPr/>
        </p:nvGrpSpPr>
        <p:grpSpPr>
          <a:xfrm>
            <a:off x="304920" y="2438280"/>
            <a:ext cx="1828800" cy="2528280"/>
            <a:chOff x="304920" y="2438280"/>
            <a:chExt cx="1828800" cy="2528280"/>
          </a:xfrm>
        </p:grpSpPr>
        <p:sp>
          <p:nvSpPr>
            <p:cNvPr id="103" name="Text Box 23"/>
            <p:cNvSpPr/>
            <p:nvPr/>
          </p:nvSpPr>
          <p:spPr>
            <a:xfrm>
              <a:off x="304920" y="243828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66"/>
                  </a:solidFill>
                  <a:latin typeface="Arial"/>
                </a:rPr>
                <a:t>2) Puhalletaan kuumaa ilma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"/>
            <p:cNvSpPr/>
            <p:nvPr/>
          </p:nvSpPr>
          <p:spPr>
            <a:xfrm rot="4188000">
              <a:off x="577800" y="3917880"/>
              <a:ext cx="1942920" cy="203040"/>
            </a:xfrm>
            <a:prstGeom prst="rightArrow">
              <a:avLst>
                <a:gd name="adj1" fmla="val 50000"/>
                <a:gd name="adj2" fmla="val 239229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6"/>
          <p:cNvGrpSpPr/>
          <p:nvPr/>
        </p:nvGrpSpPr>
        <p:grpSpPr>
          <a:xfrm>
            <a:off x="3867120" y="3513240"/>
            <a:ext cx="4114440" cy="703800"/>
            <a:chOff x="3867120" y="3513240"/>
            <a:chExt cx="4114440" cy="703800"/>
          </a:xfrm>
        </p:grpSpPr>
        <p:sp>
          <p:nvSpPr>
            <p:cNvPr id="106" name="Text Box 25"/>
            <p:cNvSpPr/>
            <p:nvPr/>
          </p:nvSpPr>
          <p:spPr>
            <a:xfrm>
              <a:off x="4816440" y="3513240"/>
              <a:ext cx="316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6600"/>
                  </a:solidFill>
                  <a:latin typeface="Arial"/>
                </a:rPr>
                <a:t>4) Hiili reagoi hapen kanssa hiilimonoksi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6"/>
            <p:cNvSpPr/>
            <p:nvPr/>
          </p:nvSpPr>
          <p:spPr>
            <a:xfrm>
              <a:off x="3867120" y="3634200"/>
              <a:ext cx="949320" cy="226800"/>
            </a:xfrm>
            <a:prstGeom prst="leftArrow">
              <a:avLst>
                <a:gd name="adj1" fmla="val 50000"/>
                <a:gd name="adj2" fmla="val 104643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0" y="5408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)  Kuona poist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4502160" y="5187960"/>
            <a:ext cx="44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33"/>
                </a:solidFill>
                <a:latin typeface="Arial"/>
              </a:rPr>
              <a:t>5) Hiilimonoksidi pelkistää rautaoksidin raudaksi. Sula raakarauta poist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ikehys 28"/>
          <p:cNvSpPr/>
          <p:nvPr/>
        </p:nvSpPr>
        <p:spPr>
          <a:xfrm>
            <a:off x="2548080" y="3801960"/>
            <a:ext cx="12920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umaa ilm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ikehys 29"/>
          <p:cNvSpPr/>
          <p:nvPr/>
        </p:nvSpPr>
        <p:spPr>
          <a:xfrm>
            <a:off x="5402160" y="233856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</a:rPr>
              <a:t>3)Palamiskaasuja poist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kstikehys 32"/>
          <p:cNvSpPr/>
          <p:nvPr/>
        </p:nvSpPr>
        <p:spPr>
          <a:xfrm>
            <a:off x="1171440" y="6396120"/>
            <a:ext cx="60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akaraudan hiilipitoisuutta pienennetään hap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1:07:24Z</dcterms:modified>
  <cp:revision>17</cp:revision>
  <dc:subject/>
  <dc:title>Dia 1</dc:title>
</cp:coreProperties>
</file>