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4880-1709-4FF9-AEAA-FB2F7395B683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4D82-5A2D-4C75-A422-F1243580CE3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440F-732E-4DCE-8E56-D8E0309B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6D6-DE49-4906-8AB7-729F9783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79D-0B9B-493E-A324-8AC0A0C5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F72-2153-4CCA-B27B-0BD4644A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8C4-9B15-4E34-B0F8-D72ADEBE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96C1-EBF2-41A5-A61B-BE1A51C4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6261-1B71-4A9A-95EA-F3F71C16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4CBE-C97E-4EB4-B765-7BA4A0B5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82AE-11D7-4623-B0A6-71C16FF0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99B5-CEA8-4859-A1E8-1C9906E4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5A93-931B-4B6A-837D-2E10427B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0A7E-B07A-42BF-B499-DF5AD18C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140-9BB2-4295-AC95-70039F57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D376-ECE3-4689-9E24-9ED05A72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45F8-0F3B-4667-BAA3-6A9471D5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A95D-6BA8-4880-96D1-C419673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5099-20D5-46A2-8A4E-9CF572B5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5317-3CCE-42E1-9AED-47C016FA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CFD-BFD9-4045-A632-2CC24548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F45-E619-40D8-A0A3-CA1EF1D7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B46-696C-4363-8BBE-41371A3D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32E-E4CE-40A0-A566-FACB43D8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011-145E-404A-BDF2-E16DC1F6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8ED-474C-4498-A081-3A87A3E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35E-ACFB-41A9-A9D0-B1D50A3C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0B71-9C4A-4938-B6F6-6B3DECB47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413C-13CF-4066-BFB0-1D4C9A8DF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Arial"/>
              </a:rPr>
              <a:t>Raudan valmi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143A-97DD-421E-A618-F2AED53ED54C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c6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u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0"/>
          <p:cNvGrpSpPr/>
          <p:nvPr/>
        </p:nvGrpSpPr>
        <p:grpSpPr>
          <a:xfrm>
            <a:off x="1332000" y="1549440"/>
            <a:ext cx="3886200" cy="4830480"/>
            <a:chOff x="1332000" y="1549440"/>
            <a:chExt cx="3886200" cy="4830480"/>
          </a:xfrm>
        </p:grpSpPr>
        <p:pic>
          <p:nvPicPr>
            <p:cNvPr id="94" name="Picture 14" descr="Blast furnace 2"/>
            <p:cNvPicPr/>
            <p:nvPr/>
          </p:nvPicPr>
          <p:blipFill>
            <a:blip r:embed="rId1"/>
            <a:srcRect l="20777" t="0" r="28570" b="0"/>
            <a:stretch/>
          </p:blipFill>
          <p:spPr>
            <a:xfrm>
              <a:off x="1789200" y="1549440"/>
              <a:ext cx="2971800" cy="48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"/>
            <p:cNvSpPr/>
            <p:nvPr/>
          </p:nvSpPr>
          <p:spPr>
            <a:xfrm>
              <a:off x="4608360" y="4749840"/>
              <a:ext cx="609840" cy="160020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4227480" y="2921040"/>
              <a:ext cx="609480" cy="160020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8"/>
            <p:cNvSpPr/>
            <p:nvPr/>
          </p:nvSpPr>
          <p:spPr>
            <a:xfrm>
              <a:off x="3922560" y="1549440"/>
              <a:ext cx="1143000" cy="60948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1332000" y="5359320"/>
              <a:ext cx="533160" cy="53352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8"/>
          <p:cNvGrpSpPr/>
          <p:nvPr/>
        </p:nvGrpSpPr>
        <p:grpSpPr>
          <a:xfrm>
            <a:off x="3657600" y="1066680"/>
            <a:ext cx="5181480" cy="990720"/>
            <a:chOff x="3657600" y="1066680"/>
            <a:chExt cx="5181480" cy="990720"/>
          </a:xfrm>
        </p:grpSpPr>
        <p:sp>
          <p:nvSpPr>
            <p:cNvPr id="100" name="Text Box 21"/>
            <p:cNvSpPr/>
            <p:nvPr/>
          </p:nvSpPr>
          <p:spPr>
            <a:xfrm>
              <a:off x="4495680" y="106668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dde"/>
                  </a:solidFill>
                  <a:latin typeface="Arial"/>
                </a:rPr>
                <a:t>1) Hematiitti (rautaoksidia), kalkkikivi ja hii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3657600" y="1905120"/>
              <a:ext cx="762120" cy="152280"/>
            </a:xfrm>
            <a:prstGeom prst="leftArrow">
              <a:avLst>
                <a:gd name="adj1" fmla="val 50000"/>
                <a:gd name="adj2" fmla="val 125118"/>
              </a:avLst>
            </a:prstGeom>
            <a:solidFill>
              <a:srgbClr val="006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4"/>
          <p:cNvGrpSpPr/>
          <p:nvPr/>
        </p:nvGrpSpPr>
        <p:grpSpPr>
          <a:xfrm>
            <a:off x="304920" y="2438280"/>
            <a:ext cx="1828800" cy="2528280"/>
            <a:chOff x="304920" y="2438280"/>
            <a:chExt cx="1828800" cy="2528280"/>
          </a:xfrm>
        </p:grpSpPr>
        <p:sp>
          <p:nvSpPr>
            <p:cNvPr id="103" name="Text Box 23"/>
            <p:cNvSpPr/>
            <p:nvPr/>
          </p:nvSpPr>
          <p:spPr>
            <a:xfrm>
              <a:off x="304920" y="243828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66"/>
                  </a:solidFill>
                  <a:latin typeface="Arial"/>
                </a:rPr>
                <a:t>2) Puhalletaan kuumaa ilma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"/>
            <p:cNvSpPr/>
            <p:nvPr/>
          </p:nvSpPr>
          <p:spPr>
            <a:xfrm rot="4188000">
              <a:off x="577800" y="3917880"/>
              <a:ext cx="1942920" cy="203040"/>
            </a:xfrm>
            <a:prstGeom prst="rightArrow">
              <a:avLst>
                <a:gd name="adj1" fmla="val 50000"/>
                <a:gd name="adj2" fmla="val 239229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6"/>
          <p:cNvGrpSpPr/>
          <p:nvPr/>
        </p:nvGrpSpPr>
        <p:grpSpPr>
          <a:xfrm>
            <a:off x="3867120" y="3513240"/>
            <a:ext cx="4114440" cy="703800"/>
            <a:chOff x="3867120" y="3513240"/>
            <a:chExt cx="4114440" cy="703800"/>
          </a:xfrm>
        </p:grpSpPr>
        <p:sp>
          <p:nvSpPr>
            <p:cNvPr id="106" name="Text Box 25"/>
            <p:cNvSpPr/>
            <p:nvPr/>
          </p:nvSpPr>
          <p:spPr>
            <a:xfrm>
              <a:off x="4816440" y="3513240"/>
              <a:ext cx="316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6600"/>
                  </a:solidFill>
                  <a:latin typeface="Arial"/>
                </a:rPr>
                <a:t>4) Hiili reagoi hapen kanssa hiilimonoksi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6"/>
            <p:cNvSpPr/>
            <p:nvPr/>
          </p:nvSpPr>
          <p:spPr>
            <a:xfrm>
              <a:off x="3867120" y="3634200"/>
              <a:ext cx="949320" cy="226800"/>
            </a:xfrm>
            <a:prstGeom prst="leftArrow">
              <a:avLst>
                <a:gd name="adj1" fmla="val 50000"/>
                <a:gd name="adj2" fmla="val 104643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0" y="5408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)  Kuona poist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4502160" y="5187960"/>
            <a:ext cx="44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33"/>
                </a:solidFill>
                <a:latin typeface="Arial"/>
              </a:rPr>
              <a:t>5) Hiilimonoksidi pelkistää rautaoksidin raudaksi. Sula raakarauta poist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ikehys 28"/>
          <p:cNvSpPr/>
          <p:nvPr/>
        </p:nvSpPr>
        <p:spPr>
          <a:xfrm>
            <a:off x="2548080" y="3801960"/>
            <a:ext cx="12920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umaa ilm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ikehys 29"/>
          <p:cNvSpPr/>
          <p:nvPr/>
        </p:nvSpPr>
        <p:spPr>
          <a:xfrm>
            <a:off x="5402160" y="233856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</a:rPr>
              <a:t>3)Palamiskaasuja poist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kstikehys 32"/>
          <p:cNvSpPr/>
          <p:nvPr/>
        </p:nvSpPr>
        <p:spPr>
          <a:xfrm>
            <a:off x="1171440" y="6396120"/>
            <a:ext cx="60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akaraudan hiilipitoisuutta pienennetään hap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1:07:24Z</dcterms:modified>
  <cp:revision>17</cp:revision>
  <dc:subject/>
  <dc:title>Dia 1</dc:title>
</cp:coreProperties>
</file>