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BBA9-7111-4804-A13A-97C85AB46081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F1C0-B891-4B7F-8FFF-942740DD8EB4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6E8B-AA61-4C73-8E91-8AF1E2BF0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7BF9-7511-4440-B7A1-79BC2CB8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D5D7-600E-4945-BAE7-EFDDE59C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B13C-73CC-450A-8CF2-DA75F728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A547-793E-472B-9573-E945FAF8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A39C-1E1E-4AC5-85DD-9D40D490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1B87-6978-4F83-8406-E9F23EA0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62E4-33A3-426A-B1C6-2F549AAB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2C12-3148-45BC-98AE-F31346D9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44D5-15D6-4141-8126-ECD6BD7C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EF7E-98CC-4DE0-9640-FF038D84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9CDB-5C84-44C0-885A-43F75574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97BE-6723-4E3A-8041-A081AB41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381B-9E29-4209-B157-4E52318C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9484-1BF7-4226-8D7D-8DECC664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ABA0-341B-4048-9495-D712E5D2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8B8F-14FE-499E-96FA-349761B9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A1A5-45CC-44B3-889F-362D21BA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CC93-EEA9-40D1-A429-E8DF9D0E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3553-5D91-4C93-B129-5BEE93AB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5DD1-1111-4583-9DBB-262B1D90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9DB0-793F-46DA-930A-E15940E3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1886-589E-4DAA-B15C-0F287488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319A-F6DC-45A9-AE35-99E2DB7C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76D9-02F9-4DCC-8FC3-72D86562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D6F3-736A-4878-8D59-185CA9D6D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5BBB-9B2B-4A3A-9BE8-E21446E80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ff"/>
                </a:solidFill>
                <a:latin typeface="Arial"/>
              </a:rPr>
              <a:t>Raudan valmis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C66D-42D0-4CAF-8158-A64BBCD4D476}" type="datetime">
              <a:rPr b="0" lang="en-GB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c6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suu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0"/>
          <p:cNvGrpSpPr/>
          <p:nvPr/>
        </p:nvGrpSpPr>
        <p:grpSpPr>
          <a:xfrm>
            <a:off x="1332000" y="1549440"/>
            <a:ext cx="3886200" cy="4830480"/>
            <a:chOff x="1332000" y="1549440"/>
            <a:chExt cx="3886200" cy="4830480"/>
          </a:xfrm>
        </p:grpSpPr>
        <p:pic>
          <p:nvPicPr>
            <p:cNvPr id="94" name="Picture 14" descr="Blast furnace 2"/>
            <p:cNvPicPr/>
            <p:nvPr/>
          </p:nvPicPr>
          <p:blipFill>
            <a:blip r:embed="rId1"/>
            <a:srcRect l="20777" t="0" r="28570" b="0"/>
            <a:stretch/>
          </p:blipFill>
          <p:spPr>
            <a:xfrm>
              <a:off x="1789200" y="1549440"/>
              <a:ext cx="2971800" cy="48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16"/>
            <p:cNvSpPr/>
            <p:nvPr/>
          </p:nvSpPr>
          <p:spPr>
            <a:xfrm>
              <a:off x="4608360" y="4749840"/>
              <a:ext cx="609840" cy="1600200"/>
            </a:xfrm>
            <a:prstGeom prst="rect">
              <a:avLst/>
            </a:prstGeom>
            <a:solidFill>
              <a:srgbClr val="c6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7"/>
            <p:cNvSpPr/>
            <p:nvPr/>
          </p:nvSpPr>
          <p:spPr>
            <a:xfrm>
              <a:off x="4227480" y="2921040"/>
              <a:ext cx="609480" cy="1600200"/>
            </a:xfrm>
            <a:prstGeom prst="rect">
              <a:avLst/>
            </a:prstGeom>
            <a:solidFill>
              <a:srgbClr val="c6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8"/>
            <p:cNvSpPr/>
            <p:nvPr/>
          </p:nvSpPr>
          <p:spPr>
            <a:xfrm>
              <a:off x="3922560" y="1549440"/>
              <a:ext cx="1143000" cy="609480"/>
            </a:xfrm>
            <a:prstGeom prst="rect">
              <a:avLst/>
            </a:prstGeom>
            <a:solidFill>
              <a:srgbClr val="c6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9"/>
            <p:cNvSpPr/>
            <p:nvPr/>
          </p:nvSpPr>
          <p:spPr>
            <a:xfrm>
              <a:off x="1332000" y="5359320"/>
              <a:ext cx="533160" cy="533520"/>
            </a:xfrm>
            <a:prstGeom prst="rect">
              <a:avLst/>
            </a:prstGeom>
            <a:solidFill>
              <a:srgbClr val="c6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38"/>
          <p:cNvGrpSpPr/>
          <p:nvPr/>
        </p:nvGrpSpPr>
        <p:grpSpPr>
          <a:xfrm>
            <a:off x="3657600" y="1066680"/>
            <a:ext cx="5181480" cy="990720"/>
            <a:chOff x="3657600" y="1066680"/>
            <a:chExt cx="5181480" cy="990720"/>
          </a:xfrm>
        </p:grpSpPr>
        <p:sp>
          <p:nvSpPr>
            <p:cNvPr id="100" name="Text Box 21"/>
            <p:cNvSpPr/>
            <p:nvPr/>
          </p:nvSpPr>
          <p:spPr>
            <a:xfrm>
              <a:off x="4495680" y="1066680"/>
              <a:ext cx="434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dde"/>
                  </a:solidFill>
                  <a:latin typeface="Arial"/>
                </a:rPr>
                <a:t>1) Hematiitti (rautaoksidia), kalkkikivi ja hiil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22"/>
            <p:cNvSpPr/>
            <p:nvPr/>
          </p:nvSpPr>
          <p:spPr>
            <a:xfrm>
              <a:off x="3657600" y="1905120"/>
              <a:ext cx="762120" cy="152280"/>
            </a:xfrm>
            <a:prstGeom prst="leftArrow">
              <a:avLst>
                <a:gd name="adj1" fmla="val 50000"/>
                <a:gd name="adj2" fmla="val 125118"/>
              </a:avLst>
            </a:prstGeom>
            <a:solidFill>
              <a:srgbClr val="006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34"/>
          <p:cNvGrpSpPr/>
          <p:nvPr/>
        </p:nvGrpSpPr>
        <p:grpSpPr>
          <a:xfrm>
            <a:off x="304920" y="2438280"/>
            <a:ext cx="1828800" cy="2528280"/>
            <a:chOff x="304920" y="2438280"/>
            <a:chExt cx="1828800" cy="2528280"/>
          </a:xfrm>
        </p:grpSpPr>
        <p:sp>
          <p:nvSpPr>
            <p:cNvPr id="103" name="Text Box 23"/>
            <p:cNvSpPr/>
            <p:nvPr/>
          </p:nvSpPr>
          <p:spPr>
            <a:xfrm>
              <a:off x="304920" y="2438280"/>
              <a:ext cx="1828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66"/>
                  </a:solidFill>
                  <a:latin typeface="Arial"/>
                </a:rPr>
                <a:t>2) Puhalletaan kuumaa ilma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24"/>
            <p:cNvSpPr/>
            <p:nvPr/>
          </p:nvSpPr>
          <p:spPr>
            <a:xfrm rot="4188000">
              <a:off x="577800" y="3917880"/>
              <a:ext cx="1942920" cy="203040"/>
            </a:xfrm>
            <a:prstGeom prst="rightArrow">
              <a:avLst>
                <a:gd name="adj1" fmla="val 50000"/>
                <a:gd name="adj2" fmla="val 239229"/>
              </a:avLst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36"/>
          <p:cNvGrpSpPr/>
          <p:nvPr/>
        </p:nvGrpSpPr>
        <p:grpSpPr>
          <a:xfrm>
            <a:off x="3867120" y="3513240"/>
            <a:ext cx="4114440" cy="703800"/>
            <a:chOff x="3867120" y="3513240"/>
            <a:chExt cx="4114440" cy="703800"/>
          </a:xfrm>
        </p:grpSpPr>
        <p:sp>
          <p:nvSpPr>
            <p:cNvPr id="106" name="Text Box 25"/>
            <p:cNvSpPr/>
            <p:nvPr/>
          </p:nvSpPr>
          <p:spPr>
            <a:xfrm>
              <a:off x="4816440" y="3513240"/>
              <a:ext cx="3165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6600"/>
                  </a:solidFill>
                  <a:latin typeface="Arial"/>
                </a:rPr>
                <a:t>4) Hiili reagoi hapen kanssa hiilimonoksid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6"/>
            <p:cNvSpPr/>
            <p:nvPr/>
          </p:nvSpPr>
          <p:spPr>
            <a:xfrm>
              <a:off x="3867120" y="3634200"/>
              <a:ext cx="949320" cy="226800"/>
            </a:xfrm>
            <a:prstGeom prst="leftArrow">
              <a:avLst>
                <a:gd name="adj1" fmla="val 50000"/>
                <a:gd name="adj2" fmla="val 104643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28"/>
          <p:cNvSpPr/>
          <p:nvPr/>
        </p:nvSpPr>
        <p:spPr>
          <a:xfrm>
            <a:off x="0" y="540864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7)  Kuona poistu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7"/>
          <p:cNvSpPr/>
          <p:nvPr/>
        </p:nvSpPr>
        <p:spPr>
          <a:xfrm>
            <a:off x="4502160" y="5187960"/>
            <a:ext cx="445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6633"/>
                </a:solidFill>
                <a:latin typeface="Arial"/>
              </a:rPr>
              <a:t>5) Hiilimonoksidi pelkistää rautaoksidin raudaksi. Sula raakarauta poistu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kstikehys 28"/>
          <p:cNvSpPr/>
          <p:nvPr/>
        </p:nvSpPr>
        <p:spPr>
          <a:xfrm>
            <a:off x="2548080" y="3801960"/>
            <a:ext cx="12920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uumaa ilm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kstikehys 29"/>
          <p:cNvSpPr/>
          <p:nvPr/>
        </p:nvSpPr>
        <p:spPr>
          <a:xfrm>
            <a:off x="5402160" y="2338560"/>
            <a:ext cx="27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</a:rPr>
              <a:t>3)Palamiskaasuja poistu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kstikehys 32"/>
          <p:cNvSpPr/>
          <p:nvPr/>
        </p:nvSpPr>
        <p:spPr>
          <a:xfrm>
            <a:off x="1171440" y="6396120"/>
            <a:ext cx="60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aakaraudan hiilipitoisuutta pienennetään hap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2:43:31Z</dcterms:created>
  <dc:creator>Ritva Tamminen</dc:creator>
  <dc:description/>
  <dc:language>en-US</dc:language>
  <cp:lastModifiedBy>Ritva Tamminen</cp:lastModifiedBy>
  <dcterms:modified xsi:type="dcterms:W3CDTF">2009-02-22T11:07:24Z</dcterms:modified>
  <cp:revision>17</cp:revision>
  <dc:subject/>
  <dc:title>Dia 1</dc:title>
</cp:coreProperties>
</file>